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is a first version of a system to search through patients and trials, towards finding a trial for a given patient. Build by Zhisheng.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other application to zoom in on.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idence = literature reviews to back up clinical guidelines.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Final application to zoom in on.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E.g. In the application “finding trials for a given patient”, a clinician can get a long list of trials. He/she will have to through them all to see in what way they are relevant to the patient. (in other words, there is no explanation of why the matcher returned a trial).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Terminologies and Links = existing medical terminologies and links between them. A lot of links exist (e.g. in bioportal), we might also create new ones if needed.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Core dataset = subset of the existing (large) medical terminologies that we have selected to be useful for the EURECA applications. We focus on this when doing alignment/linking, and when designing/testing applications.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Terminology binding = which (part of a vocabulary) is used in which (part of) application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’ve done a questionnaire to find this out. We will use this to decide what is our ‘semantic core dataset’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is just a couple of the use cases we are working on.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Zoom in on one of the applications: Automated recruitment of patients for trials, and the opposite of that: finding trials for a given patient.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is one step in the process of automatically matching a patient to a trial.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ligibility conditions are things like: to participate in this trial, patients much be over 40, post menopausal, without history of breast cancer.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834372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6080" y="4052880"/>
            <a:ext cx="83437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1800" y="163800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0608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81800" y="4052880"/>
            <a:ext cx="407160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704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48000" y="163800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0608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704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48000" y="4052880"/>
            <a:ext cx="2686320" cy="220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06080" y="3530160"/>
            <a:ext cx="8343720" cy="22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4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3340080"/>
            <a:ext cx="8229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06080" y="926640"/>
            <a:ext cx="8343720" cy="22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304920" y="6197400"/>
            <a:ext cx="5803920" cy="57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48" name=""/>
          <p:cNvSpPr/>
          <p:nvPr/>
        </p:nvSpPr>
        <p:spPr>
          <a:xfrm>
            <a:off x="6375240" y="355680"/>
            <a:ext cx="0" cy="561348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387840" y="2184480"/>
            <a:ext cx="23907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387840" y="4127400"/>
            <a:ext cx="23907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304920" y="6197400"/>
            <a:ext cx="5803920" cy="57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88" name=""/>
          <p:cNvSpPr/>
          <p:nvPr/>
        </p:nvSpPr>
        <p:spPr>
          <a:xfrm>
            <a:off x="4559400" y="1244520"/>
            <a:ext cx="0" cy="308628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892480" y="1638000"/>
            <a:ext cx="28573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164160" indent="-16416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411120" indent="-16416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99480" indent="-16452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966600" indent="-16416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4" marL="1244520" indent="-16452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5" marL="1244520" indent="-164520">
              <a:spcBef>
                <a:spcPts val="33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6" marL="1244520" indent="-164520">
              <a:spcBef>
                <a:spcPts val="33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1384200"/>
            <a:ext cx="8229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406080" y="609120"/>
            <a:ext cx="8343720" cy="5651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196920" indent="-196920">
              <a:spcBef>
                <a:spcPts val="50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492480" indent="-196920">
              <a:spcBef>
                <a:spcPts val="50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825480" indent="-197280">
              <a:spcBef>
                <a:spcPts val="50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57760" indent="-196920">
              <a:spcBef>
                <a:spcPts val="50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4" marL="1490400" indent="-197280">
              <a:spcBef>
                <a:spcPts val="50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5" marL="1490400" indent="-197280">
              <a:spcBef>
                <a:spcPts val="50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6" marL="1490400" indent="-197280">
              <a:spcBef>
                <a:spcPts val="50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" y="1384200"/>
            <a:ext cx="8229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3040" indent="-20304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507960" indent="-20304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851040" indent="-20340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93760" indent="-20304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4" marL="1536840" indent="-20340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5" marL="1536840" indent="-203400">
              <a:spcBef>
                <a:spcPts val="33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6" marL="1536840" indent="-203400">
              <a:spcBef>
                <a:spcPts val="33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" y="1384200"/>
            <a:ext cx="8229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406440" y="3530160"/>
            <a:ext cx="3581280" cy="22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4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" y="3340080"/>
            <a:ext cx="343224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406440" y="926640"/>
            <a:ext cx="3581280" cy="22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360" y="5473440"/>
            <a:ext cx="406404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4" name=""/>
          <p:cNvSpPr/>
          <p:nvPr/>
        </p:nvSpPr>
        <p:spPr>
          <a:xfrm>
            <a:off x="5308560" y="5613480"/>
            <a:ext cx="0" cy="100008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5524200" y="5956200"/>
            <a:ext cx="3492360" cy="35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14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18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18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18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18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18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18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18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06080" y="2603520"/>
            <a:ext cx="834372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06440" y="1638000"/>
            <a:ext cx="358128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182520" indent="-18252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456840" indent="-18252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765720" indent="-18288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074240" indent="-18252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4" marL="1383120" indent="-18288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5" marL="1383120" indent="-182880">
              <a:spcBef>
                <a:spcPts val="33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6" marL="1383120" indent="-182880">
              <a:spcBef>
                <a:spcPts val="33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" name=""/>
          <p:cNvSpPr/>
          <p:nvPr/>
        </p:nvSpPr>
        <p:spPr>
          <a:xfrm>
            <a:off x="457200" y="1384200"/>
            <a:ext cx="34290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06440" y="228600"/>
            <a:ext cx="358128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84200"/>
            <a:ext cx="8229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3040" indent="-20304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507960" indent="-20304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851040" indent="-20340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93760" indent="-20304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4" marL="1536840" indent="-20340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5" marL="1536840" indent="-203400">
              <a:spcBef>
                <a:spcPts val="33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6" marL="1536840" indent="-203400">
              <a:spcBef>
                <a:spcPts val="33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06440" y="1638000"/>
            <a:ext cx="358128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182520" indent="-18252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456840" indent="-18252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765720" indent="-18288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074240" indent="-18252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4" marL="1383120" indent="-182880"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5" marL="1383120" indent="-182880">
              <a:spcBef>
                <a:spcPts val="33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6" marL="1383120" indent="-182880">
              <a:spcBef>
                <a:spcPts val="33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84200"/>
            <a:ext cx="8229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304920" y="6197400"/>
            <a:ext cx="5803920" cy="57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1244520"/>
            <a:ext cx="0" cy="358164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6197400"/>
            <a:ext cx="5803920" cy="57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5" name=""/>
          <p:cNvSpPr/>
          <p:nvPr/>
        </p:nvSpPr>
        <p:spPr>
          <a:xfrm>
            <a:off x="4559400" y="355680"/>
            <a:ext cx="0" cy="561348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6197400"/>
            <a:ext cx="5803920" cy="57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3" name=""/>
          <p:cNvSpPr/>
          <p:nvPr/>
        </p:nvSpPr>
        <p:spPr>
          <a:xfrm>
            <a:off x="3137040" y="1244520"/>
            <a:ext cx="0" cy="357840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4" name=""/>
          <p:cNvSpPr/>
          <p:nvPr/>
        </p:nvSpPr>
        <p:spPr>
          <a:xfrm>
            <a:off x="6006960" y="1244520"/>
            <a:ext cx="0" cy="357840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6197400"/>
            <a:ext cx="5803920" cy="57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920" y="6197400"/>
            <a:ext cx="5803920" cy="57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2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9" name=""/>
          <p:cNvSpPr/>
          <p:nvPr/>
        </p:nvSpPr>
        <p:spPr>
          <a:xfrm>
            <a:off x="4559400" y="355680"/>
            <a:ext cx="0" cy="56005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572000" y="3149640"/>
            <a:ext cx="42163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urecaproject.e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455760" y="142920"/>
            <a:ext cx="8318520" cy="58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BRIDGING THE GAP BETWEEN CLINICAL RESEARCH AND CARE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Philips Research Europe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Brussels, February 2012 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2552760" y="393840"/>
            <a:ext cx="4025880" cy="1461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444240" y="3657240"/>
            <a:ext cx="8343720" cy="22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EHR4CR WP4-Semantic Interoperability: Convergence Meeting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Jan 22, Paris, France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lides by Laura Hollink, VU University Amsterdam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With images borrowed from Anca Bucur (Philips), Zhisheng Huang (VUA), Raul Alonso (UPM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SemanticCT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3040" indent="-203040">
              <a:lnSpc>
                <a:spcPct val="100000"/>
              </a:lnSpc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Platform for </a:t>
            </a:r>
            <a:r>
              <a:rPr b="0" lang="en-US" sz="1800" spc="-1" strike="noStrike">
                <a:solidFill>
                  <a:srgbClr val="290082"/>
                </a:solidFill>
                <a:latin typeface="Helvetica Neue"/>
              </a:rPr>
              <a:t>rule-based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formalization of trials, and patient-trial matching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urrently working on 4665 clinical trials taken from linkedCT.org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Annotated with SNOMED concept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unctionality: semantic queries on the data, linking of patients to trials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57200" y="3914640"/>
            <a:ext cx="5502240" cy="300996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4930920" y="3763800"/>
            <a:ext cx="256212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Application: Supporting the update of clinical guideline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3040" indent="-203040">
              <a:lnSpc>
                <a:spcPct val="100000"/>
              </a:lnSpc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Tracking the evidence of a guideline is currently hard and time-consuming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54612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A lot of literature needs to be read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We aim to support this process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3b00a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00a4"/>
                </a:solidFill>
                <a:latin typeface="Helvetica Neue"/>
              </a:rPr>
              <a:t>Given a guideline incl. links to literature as evidence -&gt; Recommend relevant literature based on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546120" indent="-203040">
              <a:lnSpc>
                <a:spcPct val="100000"/>
              </a:lnSpc>
              <a:spcBef>
                <a:spcPts val="1500"/>
              </a:spcBef>
              <a:buClr>
                <a:srgbClr val="3b00a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00a4"/>
                </a:solidFill>
                <a:latin typeface="Helvetica Neue"/>
              </a:rPr>
              <a:t>similar, newly published literature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546120" indent="-203040">
              <a:lnSpc>
                <a:spcPct val="100000"/>
              </a:lnSpc>
              <a:spcBef>
                <a:spcPts val="1500"/>
              </a:spcBef>
              <a:buClr>
                <a:srgbClr val="3b00a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00a4"/>
                </a:solidFill>
                <a:latin typeface="Helvetica Neue"/>
              </a:rPr>
              <a:t>newly started or completed trial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546120" indent="-203040">
              <a:lnSpc>
                <a:spcPct val="100000"/>
              </a:lnSpc>
              <a:spcBef>
                <a:spcPts val="1500"/>
              </a:spcBef>
              <a:buClr>
                <a:srgbClr val="3b00a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00a4"/>
                </a:solidFill>
                <a:latin typeface="Helvetica Neue"/>
              </a:rPr>
              <a:t>other recently updated guidelines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5657760" y="2095560"/>
            <a:ext cx="1987560" cy="118116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6807240" y="4368960"/>
            <a:ext cx="1587600" cy="15872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5334120" y="5268960"/>
            <a:ext cx="170172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Application (planned in year 3)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3040" indent="-203040">
              <a:lnSpc>
                <a:spcPct val="100000"/>
              </a:lnSpc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In many of our planned applications, there is a huge amount of information available.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We aim to give a clinician and </a:t>
            </a: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overview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by </a:t>
            </a: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grouping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the information and giving a </a:t>
            </a: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summary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of each group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Technique: “RDF summarization”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Aim: summaries instead of a long list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5283360" y="6095880"/>
            <a:ext cx="3103560" cy="16524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6230880" y="3149640"/>
            <a:ext cx="1770120" cy="293364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901800" y="4699080"/>
            <a:ext cx="4356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90082"/>
                </a:solidFill>
                <a:latin typeface="Helvetica Neue"/>
                <a:ea typeface="Helvetica Neue"/>
              </a:rPr>
              <a:t>“</a:t>
            </a:r>
            <a:r>
              <a:rPr b="0" i="1" lang="en-US" sz="1800" spc="-1" strike="noStrike">
                <a:solidFill>
                  <a:srgbClr val="290082"/>
                </a:solidFill>
                <a:latin typeface="Helvetica Neue"/>
                <a:ea typeface="Helvetica Neue"/>
              </a:rPr>
              <a:t>There is 1 trial with matching eligibility criteria”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90082"/>
                </a:solidFill>
                <a:latin typeface="Helvetica Neue"/>
                <a:ea typeface="Helvetica Neue"/>
              </a:rPr>
              <a:t>“</a:t>
            </a:r>
            <a:r>
              <a:rPr b="0" i="1" lang="en-US" sz="1800" spc="-1" strike="noStrike">
                <a:solidFill>
                  <a:srgbClr val="290082"/>
                </a:solidFill>
                <a:latin typeface="Helvetica Neue"/>
                <a:ea typeface="Helvetica Neue"/>
              </a:rPr>
              <a:t>There are 101 trials with matching eligibility criteria except age”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4241520" y="3995640"/>
            <a:ext cx="1893960" cy="130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2047680" y="4005000"/>
            <a:ext cx="587160" cy="59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Almost 1 year under way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Working on a solid basis: use cases, architecture, common data model, first versions of applications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More info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eurecaproject.eu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/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4114800" y="4660920"/>
            <a:ext cx="402588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185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EURECA project detail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4759200" y="1563840"/>
            <a:ext cx="4419720" cy="528624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084400" y="3009960"/>
            <a:ext cx="554040" cy="45720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42289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00a4"/>
                </a:solidFill>
                <a:latin typeface="Helvetica Neue"/>
              </a:rPr>
              <a:t>E</a:t>
            </a: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nabling information re-</a:t>
            </a:r>
            <a:r>
              <a:rPr b="1" lang="en-US" sz="2400" spc="-1" strike="noStrike">
                <a:solidFill>
                  <a:srgbClr val="290082"/>
                </a:solidFill>
                <a:latin typeface="Helvetica Neue"/>
              </a:rPr>
              <a:t>U</a:t>
            </a: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se by linking clinical </a:t>
            </a:r>
            <a:r>
              <a:rPr b="1" lang="en-US" sz="2400" spc="-1" strike="noStrike">
                <a:solidFill>
                  <a:srgbClr val="290082"/>
                </a:solidFill>
                <a:latin typeface="Helvetica Neue"/>
              </a:rPr>
              <a:t>RE</a:t>
            </a: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search and </a:t>
            </a:r>
            <a:r>
              <a:rPr b="1" lang="en-US" sz="2400" spc="-1" strike="noStrike">
                <a:solidFill>
                  <a:srgbClr val="290082"/>
                </a:solidFill>
                <a:latin typeface="Helvetica Neue"/>
              </a:rPr>
              <a:t>CA</a:t>
            </a: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r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265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Helvetica Neue"/>
              </a:rPr>
              <a:t>FP7-ICT-2011-7</a:t>
            </a: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265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Helvetica Neue"/>
              </a:rPr>
              <a:t>42 months from 2012 - 2015</a:t>
            </a: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265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Helvetica Neue"/>
              </a:rPr>
              <a:t>Budget 13.5M </a:t>
            </a: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265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Helvetica Neue"/>
              </a:rPr>
              <a:t>18 Partners (EU + Canada)</a:t>
            </a: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265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Helvetica Neue"/>
              </a:rPr>
              <a:t>Clinical domain: Oncology</a:t>
            </a: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265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Helvetica Neue"/>
              </a:rPr>
              <a:t>Call topic: Tools and environments enabling the re-use of electronic health records</a:t>
            </a: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EURECA Vision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Seamless, secure semantic linkage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of healthcare information residing in EHR systems (organization-wide) with information in clinical research information systems, </a:t>
            </a: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supporting the two currently separated worlds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of clinical research and clinical practice to </a:t>
            </a: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connect and benefit from each other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Main barriers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54612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the lack of semantic interoperability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54612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hallenges around data security and patient privacy.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613404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Increasing Semantic interoperability 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30481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Enables exchange of structured data with meaning in a heterogeneous language environment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harable context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Linkage between Electronic Health Records (EHR) and Clinical Trials Systems (CTS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2959200" y="1638360"/>
            <a:ext cx="61722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Semantic Integration: standard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/>
          <p:nvPr/>
        </p:nvSpPr>
        <p:spPr>
          <a:xfrm>
            <a:off x="2017800" y="1587600"/>
            <a:ext cx="4767120" cy="4898880"/>
          </a:xfrm>
          <a:custGeom>
            <a:avLst/>
            <a:gdLst>
              <a:gd name="textAreaLeft" fmla="*/ 232560 w 4767120"/>
              <a:gd name="textAreaRight" fmla="*/ 4534560 w 4767120"/>
              <a:gd name="textAreaTop" fmla="*/ 232560 h 4898880"/>
              <a:gd name="textAreaBottom" fmla="*/ 4666320 h 4898880"/>
            </a:gdLst>
            <a:ahLst/>
            <a:rect l="textAreaLeft" t="textAreaTop" r="textAreaRight" b="textAreaBottom"/>
            <a:pathLst>
              <a:path w="21600" h="22197">
                <a:moveTo>
                  <a:pt x="3600" y="0"/>
                </a:moveTo>
                <a:arcTo wR="3600" hR="3600" stAng="16200000" swAng="-5400000"/>
                <a:lnTo>
                  <a:pt x="0" y="18597"/>
                </a:lnTo>
                <a:arcTo wR="3600" hR="3600" stAng="10800000" swAng="-5400000"/>
                <a:lnTo>
                  <a:pt x="18000" y="2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cecec"/>
              </a:gs>
              <a:gs pos="100000">
                <a:srgbClr val="bababa"/>
              </a:gs>
            </a:gsLst>
            <a:lin ang="5400000"/>
          </a:gradFill>
          <a:ln w="93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73280" y="3676680"/>
            <a:ext cx="3200400" cy="1176480"/>
            <a:chOff x="2573280" y="3676680"/>
            <a:chExt cx="3200400" cy="1176480"/>
          </a:xfrm>
        </p:grpSpPr>
        <p:sp>
          <p:nvSpPr>
            <p:cNvPr id="747" name=""/>
            <p:cNvSpPr/>
            <p:nvPr/>
          </p:nvSpPr>
          <p:spPr>
            <a:xfrm>
              <a:off x="2573280" y="3676680"/>
              <a:ext cx="3200400" cy="1176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7f1"/>
                </a:gs>
                <a:gs pos="100000">
                  <a:srgbClr val="ffe2ca"/>
                </a:gs>
              </a:gsLst>
              <a:lin ang="5400000"/>
            </a:gradFill>
            <a:ln w="9360">
              <a:solidFill>
                <a:srgbClr val="f5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62840" y="3776040"/>
              <a:ext cx="1421280" cy="8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38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95960"/>
                  <a:tab algn="l" pos="5702400"/>
                  <a:tab algn="l" pos="6108840"/>
                  <a:tab algn="l" pos="6515280"/>
                  <a:tab algn="l" pos="6921360"/>
                  <a:tab algn="l" pos="7327800"/>
                  <a:tab algn="l" pos="7734240"/>
                  <a:tab algn="l" pos="814068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e Dataset</a:t>
              </a:r>
              <a:endParaRPr b="0" lang="en-US" sz="18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38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95960"/>
                  <a:tab algn="l" pos="5702400"/>
                  <a:tab algn="l" pos="6108840"/>
                  <a:tab algn="l" pos="6515280"/>
                  <a:tab algn="l" pos="6921360"/>
                  <a:tab algn="l" pos="7327800"/>
                  <a:tab algn="l" pos="7734240"/>
                  <a:tab algn="l" pos="814068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38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95960"/>
                  <a:tab algn="l" pos="5702400"/>
                  <a:tab algn="l" pos="6108840"/>
                  <a:tab algn="l" pos="6515280"/>
                  <a:tab algn="l" pos="6921360"/>
                  <a:tab algn="l" pos="7327800"/>
                  <a:tab algn="l" pos="7734240"/>
                  <a:tab algn="l" pos="814068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endParaRPr b="0" lang="en-US" sz="1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573280" y="5245200"/>
            <a:ext cx="3198960" cy="847800"/>
            <a:chOff x="2573280" y="5245200"/>
            <a:chExt cx="3198960" cy="847800"/>
          </a:xfrm>
        </p:grpSpPr>
        <p:sp>
          <p:nvSpPr>
            <p:cNvPr id="750" name=""/>
            <p:cNvSpPr/>
            <p:nvPr/>
          </p:nvSpPr>
          <p:spPr>
            <a:xfrm>
              <a:off x="2573280" y="5245200"/>
              <a:ext cx="3198960" cy="84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7f1"/>
                </a:gs>
                <a:gs pos="100000">
                  <a:srgbClr val="ffe2ca"/>
                </a:gs>
              </a:gsLst>
              <a:lin ang="5400000"/>
            </a:gradFill>
            <a:ln w="9360">
              <a:solidFill>
                <a:srgbClr val="f5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64360" y="5356440"/>
              <a:ext cx="3016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38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95960"/>
                  <a:tab algn="l" pos="5702400"/>
                  <a:tab algn="l" pos="6108840"/>
                  <a:tab algn="l" pos="6515280"/>
                  <a:tab algn="l" pos="6921360"/>
                  <a:tab algn="l" pos="7327800"/>
                  <a:tab algn="l" pos="7734240"/>
                  <a:tab algn="l" pos="814068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ology Binding</a:t>
              </a:r>
              <a:endParaRPr b="0" lang="en-US" sz="18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38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95960"/>
                  <a:tab algn="l" pos="5702400"/>
                  <a:tab algn="l" pos="6108840"/>
                  <a:tab algn="l" pos="6515280"/>
                  <a:tab algn="l" pos="6921360"/>
                  <a:tab algn="l" pos="7327800"/>
                  <a:tab algn="l" pos="7734240"/>
                  <a:tab algn="l" pos="814068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sing HL7 recommendation)</a:t>
              </a:r>
              <a:endParaRPr b="0" lang="en-US" sz="1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009960" y="4148280"/>
            <a:ext cx="2338920" cy="583920"/>
            <a:chOff x="3009960" y="4148280"/>
            <a:chExt cx="2338920" cy="583920"/>
          </a:xfrm>
        </p:grpSpPr>
        <p:sp>
          <p:nvSpPr>
            <p:cNvPr id="753" name=""/>
            <p:cNvSpPr/>
            <p:nvPr/>
          </p:nvSpPr>
          <p:spPr>
            <a:xfrm>
              <a:off x="3009960" y="4148280"/>
              <a:ext cx="2312640" cy="583920"/>
            </a:xfrm>
            <a:prstGeom prst="roundRect">
              <a:avLst>
                <a:gd name="adj" fmla="val 16759"/>
              </a:avLst>
            </a:prstGeom>
            <a:gradFill rotWithShape="0">
              <a:gsLst>
                <a:gs pos="0">
                  <a:srgbClr val="9cc645"/>
                </a:gs>
                <a:gs pos="100000">
                  <a:srgbClr val="759436"/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40560" y="4264560"/>
              <a:ext cx="2308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38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95960"/>
                  <a:tab algn="l" pos="5702400"/>
                  <a:tab algn="l" pos="6108840"/>
                  <a:tab algn="l" pos="6515280"/>
                  <a:tab algn="l" pos="6921360"/>
                  <a:tab algn="l" pos="7327800"/>
                  <a:tab algn="l" pos="7734240"/>
                  <a:tab algn="l" pos="814068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80"/>
                  </a:solidFill>
                  <a:latin typeface="Arial"/>
                  <a:ea typeface="Arial"/>
                </a:rPr>
                <a:t>Vocabularies subsets </a:t>
              </a:r>
              <a:endParaRPr b="0" lang="en-US" sz="1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571840" y="2208240"/>
            <a:ext cx="3200400" cy="1176480"/>
            <a:chOff x="2571840" y="2208240"/>
            <a:chExt cx="3200400" cy="1176480"/>
          </a:xfrm>
        </p:grpSpPr>
        <p:sp>
          <p:nvSpPr>
            <p:cNvPr id="756" name=""/>
            <p:cNvSpPr/>
            <p:nvPr/>
          </p:nvSpPr>
          <p:spPr>
            <a:xfrm>
              <a:off x="2571840" y="2208240"/>
              <a:ext cx="3200400" cy="1176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7f1"/>
                </a:gs>
                <a:gs pos="100000">
                  <a:srgbClr val="ffe2ca"/>
                </a:gs>
              </a:gsLst>
              <a:lin ang="5400000"/>
            </a:gradFill>
            <a:ln w="9360">
              <a:solidFill>
                <a:srgbClr val="f5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732760" y="2231640"/>
              <a:ext cx="2878560" cy="8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38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95960"/>
                  <a:tab algn="l" pos="5702400"/>
                  <a:tab algn="l" pos="6108840"/>
                  <a:tab algn="l" pos="6515280"/>
                  <a:tab algn="l" pos="6921360"/>
                  <a:tab algn="l" pos="7327800"/>
                  <a:tab algn="l" pos="7734240"/>
                  <a:tab algn="l" pos="814068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ologies and Links</a:t>
              </a:r>
              <a:endParaRPr b="0" lang="en-US" sz="18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 lvl="4" marL="1841400" algn="ctr">
                <a:lnSpc>
                  <a:spcPct val="100000"/>
                </a:lnSpc>
                <a:tabLst>
                  <a:tab algn="l" pos="0"/>
                  <a:tab algn="l" pos="3938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95960"/>
                  <a:tab algn="l" pos="5702400"/>
                  <a:tab algn="l" pos="6108840"/>
                  <a:tab algn="l" pos="6515280"/>
                  <a:tab algn="l" pos="6921360"/>
                  <a:tab algn="l" pos="7327800"/>
                  <a:tab algn="l" pos="7734240"/>
                  <a:tab algn="l" pos="814068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endParaRPr b="0" lang="en-US" sz="18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 lvl="4" marL="1841400" algn="ctr">
                <a:lnSpc>
                  <a:spcPct val="100000"/>
                </a:lnSpc>
                <a:tabLst>
                  <a:tab algn="l" pos="0"/>
                  <a:tab algn="l" pos="3938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95960"/>
                  <a:tab algn="l" pos="5702400"/>
                  <a:tab algn="l" pos="6108840"/>
                  <a:tab algn="l" pos="6515280"/>
                  <a:tab algn="l" pos="6921360"/>
                  <a:tab algn="l" pos="7327800"/>
                  <a:tab algn="l" pos="7734240"/>
                  <a:tab algn="l" pos="814068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578680" y="2727360"/>
            <a:ext cx="966960" cy="587520"/>
            <a:chOff x="2578680" y="2727360"/>
            <a:chExt cx="966960" cy="587520"/>
          </a:xfrm>
        </p:grpSpPr>
        <p:sp>
          <p:nvSpPr>
            <p:cNvPr id="759" name=""/>
            <p:cNvSpPr/>
            <p:nvPr/>
          </p:nvSpPr>
          <p:spPr>
            <a:xfrm>
              <a:off x="2603520" y="2727360"/>
              <a:ext cx="915480" cy="58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c645"/>
                </a:gs>
                <a:gs pos="100000">
                  <a:srgbClr val="759436"/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78680" y="2860920"/>
              <a:ext cx="966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38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95960"/>
                  <a:tab algn="l" pos="5702400"/>
                  <a:tab algn="l" pos="6108840"/>
                  <a:tab algn="l" pos="6515280"/>
                  <a:tab algn="l" pos="6921360"/>
                  <a:tab algn="l" pos="7327800"/>
                  <a:tab algn="l" pos="7734240"/>
                  <a:tab algn="l" pos="814068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80"/>
                  </a:solidFill>
                  <a:latin typeface="Arial"/>
                  <a:ea typeface="Arial"/>
                </a:rPr>
                <a:t>SNOMED</a:t>
              </a:r>
              <a:endParaRPr b="0" lang="en-US" sz="16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584520" y="2727360"/>
            <a:ext cx="914400" cy="587520"/>
            <a:chOff x="3584520" y="2727360"/>
            <a:chExt cx="914400" cy="587520"/>
          </a:xfrm>
        </p:grpSpPr>
        <p:sp>
          <p:nvSpPr>
            <p:cNvPr id="762" name=""/>
            <p:cNvSpPr/>
            <p:nvPr/>
          </p:nvSpPr>
          <p:spPr>
            <a:xfrm>
              <a:off x="3584520" y="2727360"/>
              <a:ext cx="914400" cy="58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035"/>
                </a:gs>
                <a:gs pos="100000">
                  <a:srgbClr val="c96c1f"/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41760" y="2860920"/>
              <a:ext cx="7977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38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95960"/>
                  <a:tab algn="l" pos="5702400"/>
                  <a:tab algn="l" pos="6108840"/>
                  <a:tab algn="l" pos="6515280"/>
                  <a:tab algn="l" pos="6921360"/>
                  <a:tab algn="l" pos="7327800"/>
                  <a:tab algn="l" pos="7734240"/>
                  <a:tab algn="l" pos="814068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Dra</a:t>
              </a:r>
              <a:endParaRPr b="0" lang="en-US" sz="16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557600" y="2727360"/>
            <a:ext cx="914400" cy="587520"/>
            <a:chOff x="4557600" y="2727360"/>
            <a:chExt cx="914400" cy="587520"/>
          </a:xfrm>
        </p:grpSpPr>
        <p:sp>
          <p:nvSpPr>
            <p:cNvPr id="765" name=""/>
            <p:cNvSpPr/>
            <p:nvPr/>
          </p:nvSpPr>
          <p:spPr>
            <a:xfrm>
              <a:off x="4557600" y="2727360"/>
              <a:ext cx="914400" cy="58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3b37"/>
                </a:gs>
                <a:gs pos="100000">
                  <a:srgbClr val="9a2e2b"/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65960" y="2860920"/>
              <a:ext cx="6958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38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95960"/>
                  <a:tab algn="l" pos="5702400"/>
                  <a:tab algn="l" pos="6108840"/>
                  <a:tab algn="l" pos="6515280"/>
                  <a:tab algn="l" pos="6921360"/>
                  <a:tab algn="l" pos="7327800"/>
                  <a:tab algn="l" pos="7734240"/>
                  <a:tab algn="l" pos="814068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INC</a:t>
              </a:r>
              <a:endParaRPr b="0" lang="en-US" sz="16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4010040" y="4853160"/>
            <a:ext cx="326880" cy="392040"/>
          </a:xfrm>
          <a:prstGeom prst="pie">
            <a:avLst/>
          </a:prstGeom>
          <a:gradFill rotWithShape="0">
            <a:gsLst>
              <a:gs pos="0">
                <a:srgbClr val="3a7bca"/>
              </a:gs>
              <a:gs pos="100000">
                <a:srgbClr val="2e5d97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"/>
          <p:cNvSpPr/>
          <p:nvPr/>
        </p:nvSpPr>
        <p:spPr>
          <a:xfrm>
            <a:off x="1762200" y="1717560"/>
            <a:ext cx="5371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ANTIC INTEROPERABILITY LAYER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"/>
          <p:cNvSpPr/>
          <p:nvPr/>
        </p:nvSpPr>
        <p:spPr>
          <a:xfrm>
            <a:off x="6275520" y="2825640"/>
            <a:ext cx="1031760" cy="393840"/>
          </a:xfrm>
          <a:prstGeom prst="rect">
            <a:avLst/>
          </a:prstGeom>
          <a:gradFill rotWithShape="0">
            <a:gsLst>
              <a:gs pos="0">
                <a:srgbClr val="33b3d5"/>
              </a:gs>
              <a:gs pos="100000">
                <a:srgbClr val="29869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95960"/>
                <a:tab algn="l" pos="5702400"/>
                <a:tab algn="l" pos="6108840"/>
                <a:tab algn="l" pos="6515280"/>
                <a:tab algn="l" pos="6921360"/>
                <a:tab algn="l" pos="7327800"/>
                <a:tab algn="l" pos="7734240"/>
                <a:tab algn="l" pos="814068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"/>
          <p:cNvSpPr/>
          <p:nvPr/>
        </p:nvSpPr>
        <p:spPr>
          <a:xfrm>
            <a:off x="6200640" y="4067280"/>
            <a:ext cx="1181160" cy="393480"/>
          </a:xfrm>
          <a:prstGeom prst="rect">
            <a:avLst/>
          </a:prstGeom>
          <a:gradFill rotWithShape="0">
            <a:gsLst>
              <a:gs pos="0">
                <a:srgbClr val="33b3d5"/>
              </a:gs>
              <a:gs pos="100000">
                <a:srgbClr val="29869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95960"/>
                <a:tab algn="l" pos="5702400"/>
                <a:tab algn="l" pos="6108840"/>
                <a:tab algn="l" pos="6515280"/>
                <a:tab algn="l" pos="6921360"/>
                <a:tab algn="l" pos="7327800"/>
                <a:tab algn="l" pos="7734240"/>
                <a:tab algn="l" pos="814068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soning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"/>
          <p:cNvSpPr/>
          <p:nvPr/>
        </p:nvSpPr>
        <p:spPr>
          <a:xfrm>
            <a:off x="6524640" y="5472000"/>
            <a:ext cx="533520" cy="393840"/>
          </a:xfrm>
          <a:prstGeom prst="rect">
            <a:avLst/>
          </a:prstGeom>
          <a:gradFill rotWithShape="0">
            <a:gsLst>
              <a:gs pos="0">
                <a:srgbClr val="33b3d5"/>
              </a:gs>
              <a:gs pos="100000">
                <a:srgbClr val="29869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95960"/>
                <a:tab algn="l" pos="5702400"/>
                <a:tab algn="l" pos="6108840"/>
                <a:tab algn="l" pos="6515280"/>
                <a:tab algn="l" pos="6921360"/>
                <a:tab algn="l" pos="7327800"/>
                <a:tab algn="l" pos="7734240"/>
                <a:tab algn="l" pos="814068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cxnSp>
        <p:nvCxnSpPr>
          <p:cNvPr id="772" name=""/>
          <p:cNvCxnSpPr/>
          <p:nvPr/>
        </p:nvCxnSpPr>
        <p:spPr>
          <a:xfrm flipV="1">
            <a:off x="4173480" y="5668200"/>
            <a:ext cx="26182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773" name=""/>
          <p:cNvCxnSpPr/>
          <p:nvPr/>
        </p:nvCxnSpPr>
        <p:spPr>
          <a:xfrm flipV="1">
            <a:off x="4173480" y="4263480"/>
            <a:ext cx="26182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774" name=""/>
          <p:cNvCxnSpPr/>
          <p:nvPr/>
        </p:nvCxnSpPr>
        <p:spPr>
          <a:xfrm>
            <a:off x="5014440" y="3021120"/>
            <a:ext cx="1777320" cy="216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Terminologies currently used by clinical partner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457200" y="1598760"/>
            <a:ext cx="83059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Applications EURECA plans to buil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3040" indent="-203040">
              <a:lnSpc>
                <a:spcPct val="100000"/>
              </a:lnSpc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Automated recruitment of patients for trial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upporting the update of clinical guideline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upport for designing feasible and relevant eligibility criteria, based on patient population and previous trials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Automatic detection and reporting of side effects (SARs/SUSARs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Giving a a clinician a quick overview of available information about a patient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Long term follow-up of patient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03040" indent="-203040">
              <a:lnSpc>
                <a:spcPct val="100000"/>
              </a:lnSpc>
              <a:spcBef>
                <a:spcPts val="15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And much more …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842080" y="4076640"/>
            <a:ext cx="27939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06440" y="1638000"/>
            <a:ext cx="358128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Recruit patients for trial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384120" y="3594240"/>
            <a:ext cx="4765680" cy="26542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4356000" y="2471760"/>
            <a:ext cx="4496040" cy="274644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2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Application: patients and trial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"/>
          <p:cNvSpPr/>
          <p:nvPr/>
        </p:nvSpPr>
        <p:spPr>
          <a:xfrm>
            <a:off x="4483080" y="1638360"/>
            <a:ext cx="35812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304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Find trials for a given patient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437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Formalization of trial eligibility condition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06080" y="1638000"/>
            <a:ext cx="8343720" cy="462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33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4 Main Approaches: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546120" indent="-203040">
              <a:lnSpc>
                <a:spcPct val="100000"/>
              </a:lnSpc>
              <a:spcBef>
                <a:spcPts val="3399"/>
              </a:spcBef>
              <a:buClr>
                <a:srgbClr val="29008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0082"/>
                </a:solidFill>
                <a:latin typeface="Helvetica Neue"/>
              </a:rPr>
              <a:t>Pattern-based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 (SPARQL Queries with Regular Expressions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546120" indent="-203040">
              <a:lnSpc>
                <a:spcPct val="100000"/>
              </a:lnSpc>
              <a:spcBef>
                <a:spcPts val="3399"/>
              </a:spcBef>
              <a:buClr>
                <a:srgbClr val="29008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0082"/>
                </a:solidFill>
                <a:latin typeface="Helvetica Neue"/>
              </a:rPr>
              <a:t>Annotation-based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 </a:t>
            </a:r>
            <a:r>
              <a:rPr b="0" lang="zh-CN" sz="1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（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PARQL Queries with Annotated Criteria</a:t>
            </a:r>
            <a:r>
              <a:rPr b="0" lang="zh-CN" sz="1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）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546120" indent="-203040">
              <a:lnSpc>
                <a:spcPct val="100000"/>
              </a:lnSpc>
              <a:spcBef>
                <a:spcPts val="3399"/>
              </a:spcBef>
              <a:buClr>
                <a:srgbClr val="3b00a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00a4"/>
                </a:solidFill>
                <a:latin typeface="Helvetica Neue"/>
              </a:rPr>
              <a:t>Rule-based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 </a:t>
            </a:r>
            <a:r>
              <a:rPr b="0" lang="zh-CN" sz="1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（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Formalizing Criteria with a rule language, Declarative approach</a:t>
            </a:r>
            <a:r>
              <a:rPr b="0" lang="zh-CN" sz="1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）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546120" indent="-203040">
              <a:lnSpc>
                <a:spcPct val="100000"/>
              </a:lnSpc>
              <a:spcBef>
                <a:spcPts val="3399"/>
              </a:spcBef>
              <a:buClr>
                <a:srgbClr val="29008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0082"/>
                </a:solidFill>
                <a:latin typeface="Helvetica Neue"/>
              </a:rPr>
              <a:t>Script-based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(Procedural processing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urah</dc:creator>
  <dc:description/>
  <dc:language>en-US</dc:language>
  <cp:lastModifiedBy/>
  <cp:revision>0</cp:revision>
  <dc:subject/>
  <dc:title>PowerPoint Presentation</dc:title>
</cp:coreProperties>
</file>